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B277-39A0-410A-B278-4225DF8C95DA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BB44-8E5B-4D02-9A64-B1AEF4A745F8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1A76-F78A-4426-A69D-964F8EBC7AA6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D5A7-4745-44F7-B26A-240FE4AF031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82C-8DFA-41C7-A43F-EF9AD15C039F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00F8-B6C8-4315-AEC2-B4695181A5B5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1EB6-DED0-4211-995C-FD3A6A0F51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C37C-DC4D-43BD-ABC3-5F24F74DA3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501C-3F1C-44DE-AE23-63E3DE0A128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8697-5BA1-4426-B146-961D53B79D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1173-C540-4AE0-A5D9-42F57FFD28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B13E-3921-4D44-A1BE-9183FDAE9DB0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FDDD-12BC-44B4-9AB6-CAF2DC1DDBEC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0BA-1357-4120-8ABB-89EDDFA154F8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D710-B2EA-4B3D-9763-2D8CB97DAB9B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BA36-B6F9-47BF-B31D-AC7097FD8A60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54DA-B1B0-4C04-B438-A5D455DCE291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DF1-0421-41D8-856C-56C026288B5F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38B5-313F-420A-AF28-E8A1CDAE9D0D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D50-041C-4A92-B5F5-7FD6515BC122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E65E-E71D-4FB4-9B52-E1F2562014B6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C9FA-17E4-4B71-A960-7D25F182B89C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FA5C-7CAC-49B9-B9ED-3C32AEAB5A24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C2F8-3F62-4CF1-A811-F4096BF0E5BD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7DFF-0D99-4C0C-96A5-3CA3E4DFC0CA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F0CE-013D-4EF1-9E16-271980D078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7BD1-24CB-4003-A167-7A3F41C9A5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225D-14F2-474A-A4A0-0AF6370E90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848-698B-457E-8FDC-CD4B3F71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87F-23F7-4C2E-9CFC-AC1A0D81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0AFB7-ECB8-44EA-862A-A4005FBA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49FF6-6497-4AC8-A56C-8436816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52A05-E5B3-4D28-9AAB-5B6F168C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4EDBB-30A4-45A2-A3AF-220E408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0CD81-A55A-4608-A5CD-F3A2CC71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6DCE1-4865-484A-9FC3-251584D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FBF0A-7A10-448C-B23F-15ABFE09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D209D-B099-45FE-95C3-382D151E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91145-FB04-452B-AA02-753CEB89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56E8E-0178-4DEA-86CC-FAD93DA0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199-3966-4B23-8647-99E0AAC5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3763E-AC21-4DD1-996A-590E3FF8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29999-C4B0-49EA-8F67-236269D4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3F270-C2B1-4046-AA3C-0C2692B3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B8BBC-3AA4-4E5D-8611-DE002CCA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C1A0D-4F67-404F-80E0-C26DAEFF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B3030-FAF4-4BB0-A45B-64A27055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02547-55C5-44E1-B770-17499F46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F7C35-8D4D-45B2-9EE5-764F137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02F98-8648-4CDC-85EE-FEAD86AD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64F98-C401-4B90-9425-92B56239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AF9-5E7B-46E2-939D-AEA1F957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5F62E-BC70-430A-92A1-78E00B4D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13F53-9F9F-4814-BBE0-091D5BAB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99774-5ED2-4E2E-9840-A10F8403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A97CF-D020-41F5-9A15-60935330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6AC77-D405-4CB1-9013-60EA9414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93B29-FFF1-4F11-93B0-71EA2A6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BB56E-43A0-40ED-A23D-06FA468A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F9D84-85AD-42AE-8E7C-9E98A387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D4B79-A7EE-464D-B3E7-19A19C3F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52333-514A-482A-93D2-5990D06C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867F-509C-4C4F-9EAF-CA289EE9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E552-A2D4-431C-8871-BFACE05A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8C7B1-2062-4252-AB24-C9E2E4D7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B1394-D2E0-4CBE-A893-BC1C6106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75C6-E84E-474F-9CDA-09CF0B3B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411D-93C0-4BBB-B4A0-A1200241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6EBC-76EB-43B9-BC7A-CB05EF7C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2DB7-7FF3-4B96-A07F-8C093921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414A-F9FD-4890-BF88-3DB1ED88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015F-8218-4DE8-A9C9-FD00F524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0CC-7A58-4A60-8BAD-5AE12578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5D18-3703-40B7-A682-FDF8F47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5282-9F20-4B1D-9D5B-B60D5197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F97E-A23A-4C6C-9545-1C8F2FF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B771-E689-469F-8313-9D7A5A5E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24A2-7DFE-439D-8584-1BAA88AA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CAAA-5699-46FA-AF30-FBD9675B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5262-FA9E-4414-B444-73EAEDAE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5D91-6B98-4A80-84B7-57E80E1D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B85D-0900-4CB1-8B62-6F10D5AE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DA8A-A225-4051-969A-3A4E9150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FC0-AC20-4DE3-AA5A-C699DAE2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700B-CBFF-4428-B607-19FC30CB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737E-40B3-440A-873D-32F0F499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9DED-0F10-4125-A010-D2F02265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43BD-C628-4F6F-89E3-1903DBF3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6C294-76B8-4A06-8C36-F5F1C23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9ED6-1437-466B-87F5-24ADE50D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F377-D3D5-4011-8C9F-53C7A302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2D2C-F578-4C14-8C4D-83D1B5AD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FD76-4CB0-4233-8BC3-C5835B97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B145-D0BD-4045-802D-7F5420F4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C61-ECA4-4AE1-B788-7B6B6889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680E7-3B42-434C-91E2-C9116251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2B29-6AD1-43E7-82FD-50F53F2C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F9FF-145A-456B-9CB3-59B1761E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550A-0B17-42CE-A8E0-E4E809B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3E66-649A-4188-85EC-9B882B28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C15BB-4EC5-439B-A178-6A9EB77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F267A-23BE-434F-BF96-7B8D53B2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5A75-00F2-493A-A7BB-00BCC96F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0809-E124-42A5-96F6-A4ACB41E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A5F8-D961-4878-9B3A-A9BE628E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6F1-BDF1-4CBE-A79D-6F7B9F7D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01AB5-6F70-4894-A09D-A301CFD1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3A395-EF39-4462-90F2-ACCF3EDF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594D8-351C-4F50-AFDD-D8E8F05E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412A1-07C8-4ABC-A21F-1AB9A421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529D-5C3B-4D20-9705-211A367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1588-B4D3-479A-B15C-C90BF955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550FE-23BF-45D4-84F8-2BACC984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5A923-CE27-4A14-BDE6-9380704B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9A075-BE73-4261-B714-2F9EB0E9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F720-B488-4A7C-871D-1CAC9146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82A-76A0-424E-8D73-92D123F6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8565B-69D1-414F-8FEC-363C9C60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738D5-85D4-45BE-9E59-99B14DC8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C110A-01EB-4049-852C-5D9DC2A5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E9585-F733-4852-927E-B659773D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031D-3355-42C0-8722-FC2F1F34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5A4E0-A81D-4FD8-AAC5-95CC4E42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2B0A5-9138-416B-B757-04B0680C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5969-2254-4098-80F0-2CAD9B8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5D1F3-6299-4D65-B22C-FB40D4B1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89788-01C0-4BC9-BBE2-1992FC6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2A2-1393-462D-A4DD-33195A6C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773B-0B82-4A36-AA12-E6604DB7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37A6B-FCA6-464A-9CB0-340F71A4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F5DB-6921-40A1-B72A-5B476047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D3EC-2E68-4E89-9EC3-D89FC865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9E8CF-619E-4149-85BC-898BC295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80F0D-D0EB-490B-8B34-954D8EBC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6F66-509F-495D-A3B6-53AC31E8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414E9-561D-4826-ABBE-D98CDA7A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87DB-8684-4220-B7D0-67D92EF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2833E-D21F-4E10-9A64-B3477B8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D46-1522-4E83-B297-7928F6D5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4ED92-C352-4D98-A9BE-58BA1C29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D4C3-46A2-4B90-AE9A-B533024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FC80-ED33-4608-8072-EEEB4276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68AB-E8B8-41E2-84FF-7D722243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579C3-EBB8-462B-8229-4F5995EC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6BCBF-AF2F-4BED-99F4-AA5B90D9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767B9-AB8B-478C-B4A9-1F4FA542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4F601-F22D-4061-91B5-8F588E22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15518-8AB4-4874-8F37-A2E6305F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83F1C-E974-45D5-A71A-4A998686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B70-06D9-486B-BDBD-BBC3B9F7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21C43-B662-4DDB-905E-1CA5E84E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3456C-14BF-4D7F-9065-F825FB04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02F6D-4457-4137-A2BF-388FD361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F7F8C-C71A-46B2-8BA0-497BB5C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FFB72-56AB-4ABA-95B7-CD745E5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41DB4-BEB1-4DCB-8259-631AE877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99312-A360-4101-9667-9D622998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3E955-734F-4281-9336-B77ADA19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39BE0-3344-4B0E-BFA4-A40F58B8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60770-3067-4807-994E-640D3FC9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C62ED8F7-3512-4BDF-8FB1-A8ECEF835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C9A5C2D3-49F6-45FE-B000-EC122D0CD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36C4339C-D0DC-4356-A8B8-D6FC3FEE7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4373F40E-3E03-4A00-907B-1FBEDAD35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B40AC785-0A30-41D3-B999-57BC46DF0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5B74C5AC-CBA3-4B2E-A1DC-18D2124F6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87E62B2E-BCBC-4CC3-95F9-74F89E971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2CE4E2C3-60FA-429C-845E-94D665ED6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D043596-8D08-461E-981A-842FA7FE9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36459B8D-DF1C-4551-8672-79BBA19C8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F2CE0216-18F2-41F2-A286-8E99E739A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sp>
        <p:nvSpPr>
          <p:cNvPr id="515" name="Rectangle 3"/>
          <p:cNvSpPr/>
          <p:nvPr/>
        </p:nvSpPr>
        <p:spPr>
          <a:xfrm>
            <a:off x="725400" y="4311720"/>
            <a:ext cx="7678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° Repar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54080" y="6427800"/>
            <a:ext cx="2473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5560" algn="ctr">
              <a:spcBef>
                <a:spcPts val="3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Roma, 30-31 ottobre 201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-14400" y="4871880"/>
            <a:ext cx="9172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Progetto di Riordino dello Strumento Militare Naziona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99"/>
                </a:solidFill>
                <a:latin typeface="Arial"/>
              </a:rPr>
              <a:t>INCONTRO CON I RAPPRESENTANTI NAZIONALI DELLE OO.S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GIÀ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446120"/>
          <a:ext cx="7643880" cy="3206880"/>
        </p:xfrm>
        <a:graphic>
          <a:graphicData uri="http://schemas.openxmlformats.org/drawingml/2006/table">
            <a:tbl>
              <a:tblPr/>
              <a:tblGrid>
                <a:gridCol w="1641600"/>
                <a:gridCol w="1859040"/>
                <a:gridCol w="1143000"/>
                <a:gridCol w="1428840"/>
                <a:gridCol w="1571400"/>
              </a:tblGrid>
              <a:tr h="7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° RMV SIGONEL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CONFIGURAZIONE MANUTENZIONE ALTRI SISTEMI D’AR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OSPE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IGENZA DI RICONVERSIONE PROFESSIONA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G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L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DIMENSIONAMENTO/RILOCAZIONE (2020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ATTIVAZIONE FASE  REIMPIEGO ALL’ATTO DELLA AUTORIZZAZIONE ALLA RILOC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66720" y="3710160"/>
            <a:ext cx="80010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 marL="1619280" indent="-1619280">
              <a:spcBef>
                <a:spcPts val="1250"/>
              </a:spcBef>
              <a:tabLst>
                <a:tab algn="l" pos="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osto 2012 : trasmissione allo SMD dell’elenco aggiornato dei provvedimenti da attuars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3"/>
          <p:cNvSpPr/>
          <p:nvPr/>
        </p:nvSpPr>
        <p:spPr>
          <a:xfrm>
            <a:off x="1143000" y="1433520"/>
            <a:ext cx="7000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just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PROVVEDIMENTI  REVISIONE STRUMENTO MILIT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012/20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34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(ELEMENTI DI ORGANIZZAZIONE CON PP.OO. PERSONALE CIVIL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500040" y="771480"/>
          <a:ext cx="8072640" cy="330984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BARI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O SEDIM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O SEDIME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MILAN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DI CORP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POL. POZZUOLI* (sedi di Pozzuoli, Caserta, Capodichin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I SEDIM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6-0-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I SEDIMI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. SANITARIA D’APPELLO – ROMA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00040" y="4362480"/>
          <a:ext cx="8072640" cy="135252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 STD VENEZ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IN FASE ELABO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 STD FINALE LIGU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ALBENGA DELLA DITTA PIAGGI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/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8" name="CasellaDiTesto 2"/>
          <p:cNvSpPr/>
          <p:nvPr/>
        </p:nvSpPr>
        <p:spPr>
          <a:xfrm>
            <a:off x="441360" y="40766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ATTUATIVI DAL 1° NOVEMBRE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00040" y="1004760"/>
          <a:ext cx="8072640" cy="32004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REZ. AMM.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ROMA PAL.A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F.DISTACC COMM.TO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UFF REP AMMINIST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CIAMPIN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REPARTO GENIO MILA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00040" y="4330800"/>
          <a:ext cx="8072640" cy="11700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° GrRAM POGGIO BALL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4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D.C. MONTEROTOND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GUIDON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00040" y="907920"/>
          <a:ext cx="8072640" cy="39942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DC GALLAR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DELLE FUNZIONI AL 1° RMV 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°STORMO PIAC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STORMO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VIS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UPPO RIFORNIMENTI TORRICO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41440" y="809640"/>
          <a:ext cx="8072280" cy="14637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280"/>
                <a:gridCol w="1500480"/>
                <a:gridCol w="17143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zio Amministrati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BIO DIPEND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l Comando Aeroporto al COMA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TENIMENTO PRESSO ARTICOL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546120" y="2505240"/>
          <a:ext cx="8072280" cy="1098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32144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PV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ITU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O SOVRAORDINATO AL COMANDO AEROPORTO CAMERI E AL 1° RM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49360" y="3762360"/>
          <a:ext cx="8072280" cy="1773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608120"/>
                <a:gridCol w="1606320"/>
              </a:tblGrid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NSR MONTE CA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. TLC CIAMP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00040" y="1127160"/>
          <a:ext cx="8072640" cy="4487760"/>
        </p:xfrm>
        <a:graphic>
          <a:graphicData uri="http://schemas.openxmlformats.org/drawingml/2006/table">
            <a:tbl>
              <a:tblPr/>
              <a:tblGrid>
                <a:gridCol w="2328840"/>
                <a:gridCol w="1940040"/>
                <a:gridCol w="1241280"/>
                <a:gridCol w="1243080"/>
                <a:gridCol w="1319400"/>
              </a:tblGrid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Mostre - Roma Urb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GNA DI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PANTELLE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SMISTAMENTO AREA NORD BAGGI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EROP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NI SARZ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SVZ TEC.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IONAL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SVZ TEC. DIST. TOR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CLEO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AL 1° NOVEMBRE 2012. FUNZIONI RILOCATE AL 1° RMV CAME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4"/>
          <p:cNvSpPr/>
          <p:nvPr/>
        </p:nvSpPr>
        <p:spPr>
          <a:xfrm>
            <a:off x="1042920" y="5713560"/>
            <a:ext cx="1603440" cy="457200"/>
          </a:xfrm>
          <a:prstGeom prst="rightArrow">
            <a:avLst>
              <a:gd name="adj1" fmla="val 50000"/>
              <a:gd name="adj2" fmla="val 876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4"/>
          <p:cNvSpPr/>
          <p:nvPr/>
        </p:nvSpPr>
        <p:spPr>
          <a:xfrm rot="5400000">
            <a:off x="4697640" y="3373920"/>
            <a:ext cx="442800" cy="552600"/>
          </a:xfrm>
          <a:prstGeom prst="rightArrow">
            <a:avLst>
              <a:gd name="adj1" fmla="val 50000"/>
              <a:gd name="adj2" fmla="val 5929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632600" y="4221000"/>
            <a:ext cx="660600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IPOTESI NUOVA QUOTA AM = DA DEFIN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979640" y="1700280"/>
            <a:ext cx="5977080" cy="1510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a2dc"/>
                </a:solidFill>
                <a:latin typeface="Arial"/>
              </a:rPr>
              <a:t>Quota dotazioni organiche ipotizzata AM 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4.48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prima della norma “spending review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676960" y="5734080"/>
            <a:ext cx="499032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F.E.O.  A.M. al 29 ott 2012 = 4.42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>
            <a:off x="642960" y="20131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2508480" y="1785960"/>
            <a:ext cx="56718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Avvio studi definizione/ottimizz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dei moduli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195640" y="2924280"/>
            <a:ext cx="480528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evisione TOO già avvi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Tenendo pres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4"/>
          <p:cNvSpPr/>
          <p:nvPr/>
        </p:nvSpPr>
        <p:spPr>
          <a:xfrm rot="5400000">
            <a:off x="2465640" y="4021560"/>
            <a:ext cx="442800" cy="55260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16000" y="4869000"/>
            <a:ext cx="2608200" cy="86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vaca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e non fun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4"/>
          <p:cNvSpPr/>
          <p:nvPr/>
        </p:nvSpPr>
        <p:spPr>
          <a:xfrm rot="5400000">
            <a:off x="6571440" y="3950640"/>
            <a:ext cx="442800" cy="55224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5512680" y="4653000"/>
            <a:ext cx="2620800" cy="128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non funz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nel disegn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ordinativo futu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865600" y="2637000"/>
            <a:ext cx="4227480" cy="1288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Circolare ordinativ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ggiornamento TOO 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l 30 giugno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SCOPO DELLA RIUN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tangolo 3"/>
          <p:cNvSpPr/>
          <p:nvPr/>
        </p:nvSpPr>
        <p:spPr>
          <a:xfrm>
            <a:off x="826920" y="1628640"/>
            <a:ext cx="770580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formare le OO.SS. circa il progetto di riordino dell’AM, in senso riduttivo, indicando i possibili provvedimenti da adottare nel periodo 2012-201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llustrare e aggiornare sulle linee di indirizzo per l’impiego del personale civile anche alla luce delle nuove dotazioni organiche in via di defini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4"/>
          <p:cNvSpPr/>
          <p:nvPr/>
        </p:nvSpPr>
        <p:spPr>
          <a:xfrm>
            <a:off x="571680" y="26449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425320" y="2631960"/>
            <a:ext cx="572364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Mantenimento/riduzione attuale F.E.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571680" y="37018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453040" y="3703680"/>
            <a:ext cx="54522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ivilegiare professionalità pregi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area tec.-manutentiva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pic>
        <p:nvPicPr>
          <p:cNvPr id="585" name="Rettangolo 6" descr=""/>
          <p:cNvPicPr/>
          <p:nvPr/>
        </p:nvPicPr>
        <p:blipFill>
          <a:blip r:embed="rId3"/>
          <a:stretch/>
        </p:blipFill>
        <p:spPr>
          <a:xfrm>
            <a:off x="743040" y="4376880"/>
            <a:ext cx="7657920" cy="159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ttangolo 3"/>
          <p:cNvSpPr/>
          <p:nvPr/>
        </p:nvSpPr>
        <p:spPr>
          <a:xfrm>
            <a:off x="611280" y="1285920"/>
            <a:ext cx="816444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trodu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Status Riordi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ovvedimenti da attu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Linee di indirizzo sull’ordinamento e impiego del personale civ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INTRODUZ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000160" y="1643040"/>
            <a:ext cx="521496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IORGANIZZAZIONE DIF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 rot="17529600">
            <a:off x="2819160" y="2487240"/>
            <a:ext cx="627120" cy="550800"/>
          </a:xfrm>
          <a:prstGeom prst="rightArrow">
            <a:avLst>
              <a:gd name="adj1" fmla="val 50000"/>
              <a:gd name="adj2" fmla="val 6731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642960" y="3514680"/>
            <a:ext cx="2608200" cy="1136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ovvedimenti già inseriti nel  D.Lgs. 253/’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4"/>
          <p:cNvSpPr/>
          <p:nvPr/>
        </p:nvSpPr>
        <p:spPr>
          <a:xfrm rot="14589000">
            <a:off x="5387760" y="2406240"/>
            <a:ext cx="627120" cy="551160"/>
          </a:xfrm>
          <a:prstGeom prst="rightArrow">
            <a:avLst>
              <a:gd name="adj1" fmla="val 50000"/>
              <a:gd name="adj2" fmla="val 672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286240" y="3300480"/>
            <a:ext cx="3286440" cy="20570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.D.L. reca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elega al Governo per la revisione de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strumento militare nazional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6"/>
          <p:cNvSpPr/>
          <p:nvPr/>
        </p:nvSpPr>
        <p:spPr>
          <a:xfrm>
            <a:off x="357120" y="1428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601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AGGIORNAMENTO PROVVEDIMENTI  AVVIATI DAL D.LGS 253/05  e </a:t>
            </a:r>
            <a:r>
              <a:rPr b="1" i="1" lang="it-IT" sz="2400" spc="-1" strike="noStrike">
                <a:solidFill>
                  <a:srgbClr val="00cc00"/>
                </a:solidFill>
                <a:latin typeface="Arial"/>
              </a:rPr>
              <a:t>ATTU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tangolo 7"/>
          <p:cNvSpPr/>
          <p:nvPr/>
        </p:nvSpPr>
        <p:spPr>
          <a:xfrm>
            <a:off x="1214280" y="252720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2° GrRAM Otra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4° GrRAM Siracu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ttangolo 6"/>
          <p:cNvSpPr/>
          <p:nvPr/>
        </p:nvSpPr>
        <p:spPr>
          <a:xfrm>
            <a:off x="357120" y="1428840"/>
            <a:ext cx="8501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AGGIORNAMENTO PROVVEDIMENTI  AVVIATI DAL D.LGS.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(già partecipati alle OO.S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ttangolo 7"/>
          <p:cNvSpPr/>
          <p:nvPr/>
        </p:nvSpPr>
        <p:spPr>
          <a:xfrm>
            <a:off x="1214280" y="2786040"/>
            <a:ext cx="68580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El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Brindis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1° RMV Sigonell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° GMA Forlì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4° Deposito Centrale Moden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DAL DLGS 253/05  E ATTUA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714240" y="2381400"/>
          <a:ext cx="7858440" cy="1984320"/>
        </p:xfrm>
        <a:graphic>
          <a:graphicData uri="http://schemas.openxmlformats.org/drawingml/2006/table">
            <a:tbl>
              <a:tblPr/>
              <a:tblGrid>
                <a:gridCol w="1627200"/>
                <a:gridCol w="1841760"/>
                <a:gridCol w="1274760"/>
                <a:gridCol w="1608120"/>
                <a:gridCol w="150660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 EFFETTU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° GrRAM Otra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IN DISTACCAMENTO AM E IN Sq.R.R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già attuat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DI REIMPIEGO OPERATIVO DAL 01/07/2012 nei nuovi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° GrRAM Siracu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55640" y="1714680"/>
          <a:ext cx="7858080" cy="2579400"/>
        </p:xfrm>
        <a:graphic>
          <a:graphicData uri="http://schemas.openxmlformats.org/drawingml/2006/table">
            <a:tbl>
              <a:tblPr/>
              <a:tblGrid>
                <a:gridCol w="1671480"/>
                <a:gridCol w="1785960"/>
                <a:gridCol w="1285920"/>
                <a:gridCol w="1571760"/>
                <a:gridCol w="15429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GRUPPO RIFORN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EL D’ANNONE (AT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 (in aspettativ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TAZIONE EFFETTUATA NEL  2008.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LPERSONALE VIENE TRASFERITO ALL’ATTO DELLA CHIUS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GRUPPO  RIFORNIMENTI VIZZINI (S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84360" y="981000"/>
          <a:ext cx="8137440" cy="4253040"/>
        </p:xfrm>
        <a:graphic>
          <a:graphicData uri="http://schemas.openxmlformats.org/drawingml/2006/table">
            <a:tbl>
              <a:tblPr/>
              <a:tblGrid>
                <a:gridCol w="1714320"/>
                <a:gridCol w="1943280"/>
                <a:gridCol w="1344600"/>
                <a:gridCol w="1622160"/>
                <a:gridCol w="1513080"/>
              </a:tblGrid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° D.C. MODE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REIMPIEGO APPROVAZIONE POLIT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ELMA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GRADUALE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/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ERTAZIONE PREVISTA NOVEMBRE 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BRINDIS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 DELL’ATTUALE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E IMPIEGO NELL’EDO RIDIMENSIONA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13:27Z</dcterms:created>
  <dc:creator>smelzoe</dc:creator>
  <dc:description/>
  <dc:language>en-US</dc:language>
  <cp:lastModifiedBy>genovesea</cp:lastModifiedBy>
  <dcterms:modified xsi:type="dcterms:W3CDTF">2012-11-22T11:55:42Z</dcterms:modified>
  <cp:revision>796</cp:revision>
  <dc:subject/>
  <dc:title>Diapositiva 1</dc:title>
</cp:coreProperties>
</file>