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3D3-C5E4-4314-8E9C-B979B17500A0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C6E2-8A99-4738-A4DB-EB476B4EEBF1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9351-532C-4468-BEFC-D85614A8CBA8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22A-B581-4129-8A52-158DF8A577D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B5D-5E03-48D7-929E-F5310B4563DA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5DA3-F64B-4AD1-B165-9BB0ADBE6009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FFD4-DDF6-4910-BC0E-125CD15249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70AE-3D2B-4419-ABEB-BEBC39BAD5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2BFF-9B0E-4BA4-A0F2-EFA8E54B34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71D3-7829-452A-BECC-C0ADD2B80A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BCF-5E97-4400-A9AA-F2A036CE0B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FEB9-1963-4357-B92C-A616B5069F10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4543-4976-4586-A504-B55A1217852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1BB-0E90-4044-B971-CC67C1EC6A8F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D1D-EE65-4A21-A057-A341122C2132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6D3-25D3-4A43-954F-6E8042F1C5BD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7AD-2B61-47C6-BAA1-A554D1AC4F7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1F2-1C60-4A72-887E-EB697E69C9E1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3727-9A0C-4A20-8555-9DA51850E1CE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7A7D-2FC8-4BE4-A48F-8CE06A1EA034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49840" y="942660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54A0-D40C-4FF6-93DA-3798EC0234FE}" type="slidenum"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ACD4-7F39-4D5A-B01A-ACC8F89D51C6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BCDF-475F-40BE-B8F9-B0E3E8ECAD7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3FE3-40B3-48D2-80B3-12C21CA79616}" type="datetime">
              <a:rPr b="1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86D-EBA7-48FF-9341-318015D0218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87560" y="871560"/>
            <a:ext cx="46242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06480" y="4722480"/>
            <a:ext cx="49845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D2D7-6BC2-499E-B83E-68243B8C56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34F9-EF37-430D-B3D8-917E78123C6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B263-CDB8-492E-81B4-8F99F74B5D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7D7-8C8D-456E-A72D-DDB8F422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18F-BDFC-43FD-AC15-84035F3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C0FC1-FBCE-4DAE-9B1A-BE9D99F1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B041-E023-466C-B7D4-DA39EB74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B8FAB-9001-4155-BB62-0C6A3F3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DC2B4-F6B1-4B59-87F4-F3FCE8E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3C14D-305E-458D-82DA-3C77145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306DE-7479-4E43-A877-2C43079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07FB0-97C8-442F-91DB-B26B49A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E87AB-42DD-4AFB-9D70-EEA66758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A7952-6315-40BF-82DA-B74A1874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6B32-4769-4A84-8A80-D63DFE8D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1BD-A240-4A1E-AD9C-BD3AB2FA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24413-59F9-4E75-B36D-D0DD037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EF9F-A15C-4640-840D-7BE2EAD4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D7E59-A06C-4154-B632-F5F8D16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B4196-BEDC-4CE6-8A85-4A7C7DA5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94A3-0401-4DA6-B3B6-E9B77AE9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C7A95-5929-43BD-9365-178C15E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B5C35-DCD0-4E3A-A777-EA6E6333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07F7-9C4F-41BE-8B46-E695640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114F3-894A-41EC-9AED-CB208D5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F75A0-CC9C-4EB8-AB47-8CF06633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635-9192-4827-B8E8-C8C06C3C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D153B-B02C-410A-AF73-EE3BE5E0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6BF59-8723-468D-813B-B7DD181E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D1C3-54B6-40BF-AEE9-84D89CB8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E940-489C-4924-A726-A29D61B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D54B0-1C5E-4041-B49C-347C4F7E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F4A5-3F46-4D1D-B7E8-342CDDE6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BDE1-43ED-4CA5-87B6-96458D5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724FF-59FB-47BC-AD8C-9AFB2B1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53A48-D5EA-4188-98A4-3FB47B4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F7A4A-8957-4F8D-9CD9-68CDBFF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9A4D-DBA3-4015-B85E-FD55CCA0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16323-7088-42F8-8BE5-6BBC908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D6580-9F27-4CED-9D1C-ED6CAF99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20798-8110-4ECF-B096-10FAD25B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589-F3ED-4BDA-A1FF-C6B5C369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E60-870E-4614-B52C-DA1E8B3D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108B-4F19-44FD-808A-C8A600D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1FF-6DD4-427F-8669-C89C2B22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6109-3629-43DD-A1AD-D74B58B1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3C5C-F4D4-4501-A980-08597A24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2C-3938-4D08-884E-08F7507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FCD-FEA5-4956-AA1F-9604383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7254-AAFE-4154-81C4-0DA1C7E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A0EC-58B0-4C1A-BB5D-0A86EB53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9829-C27D-4F52-A793-6EB7E6FF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AFA6-0EF9-467C-BF62-4B65857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E732-25BB-4C95-AD6A-E236AC6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0F08-D751-4224-BED8-9CFB1072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D288-2F4C-4CD8-98ED-379B330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2DBC-E3B2-40D0-B337-D91950CD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5A5D-E476-4828-8841-822B151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2FF-2D7A-41CA-AA68-C7A032F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EBBA-5613-4505-B33D-64CD286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7FD2-71BF-4172-B32E-10EDAF03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49D8-6001-4CF0-8FCF-1E24E3C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BA99-00D9-4619-AA95-718816C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198F-3C5F-4E3A-9612-56ECEB20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E6971-3866-45BD-AF2B-A78C89AB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E194-CFAC-4980-9297-B2822F8E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B290E-6BC5-4E5A-A886-B93B5F7E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AD5E-1717-4C93-A674-41D4D68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B5A1-86F6-4F4D-8681-37429515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49D-CE0B-4AA9-8A5A-48EE797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5475-4EE5-45EE-AB18-D29E7E33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30A0-F41A-4394-B911-1D83BCA6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4DDB-9453-4156-B90C-32E73EF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CDB46-6EF8-4286-90E9-62E8B11F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D4130-2FFA-4FA2-87DC-B6B3F4F6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752C-D984-428E-9829-47DA509C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6EB4-87AD-48E6-9343-9BF3F22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F123-0CF8-4919-9186-9EFDC36E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C51A-F733-4CD5-B79F-45115F6C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998E-B2EB-405E-96D9-89590BCB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9FE-1B5D-4D53-9937-A217162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43D2-CB9D-409B-8B23-B2A4E77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79E7E-71AC-485B-AB49-3CE8F77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37F8-F37B-48B8-A3F7-7973FED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F8D30-BA27-45CB-9CF2-4143BE3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82B8-0493-4473-9E80-22B589C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950B-644A-46ED-B130-DCB853A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5FC4-E231-45BE-A827-97AA3CB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21C3-31D5-4F62-AD7F-40A0DD06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70B35-DFA9-4AD2-8AFF-7D9D0CF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3CAC-A1F5-4817-84E0-EC7A4FB4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2AC-259B-4DAB-8D0E-0724CA4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AF4E-C2E6-46E1-9668-6CA0B674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5F685-F55A-4FBC-94F8-48F0A47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93E8-773A-458C-ACF6-BEEB852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C8C75-0F2D-42E0-A37A-E44358C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E5A12-E81F-4F6C-A4BC-1E5970FA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7633E-A5DB-439F-8218-28E4AC6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E179-B0B2-46AC-B7B5-93675EF3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DB586-430F-4DC0-A4CE-DFD5F46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B5D8-F3B9-4163-BE6E-4FB72AF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3E9F2-1D45-41F4-A47B-7DBE6C8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F0C-AC6D-4EC5-BB9C-69194C0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43688-E756-4204-99E9-EDEB5FA6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DE61-7FE8-4E50-AF98-C884AD95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6C2E7-2186-4A89-B7A3-D4D7B96F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39CAD-5718-47C8-96E0-23342AD4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CB42-41C1-4188-9BF2-4F179A96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E7503-B885-46FE-8AF0-0C56D4AD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4C79-A1B7-4AFF-A49E-DD9A4E04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A8D9-7A55-4540-908C-4AB7346B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F5AA-EB64-45F1-8ADE-985F8713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950B-14B0-4B27-8B48-EE8BCC3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302-9E26-403A-89E3-3D35366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5A88-9867-48EA-AE78-DBB74A7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85A8D-132B-4B95-8ECC-38280A0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08FE5-6745-44E6-8C62-6C758A29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A1730-564B-4A76-A52D-A40CA7B7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98A6-CE10-40D2-ACB3-D03B139A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F2DA-DA67-4BD2-8BA0-7331D871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1180-C3D2-4C66-B2F9-6217E23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168C0-D54A-4657-B1D3-586F93B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F73D3-3419-46A1-B3F3-5AAD8B8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9A26-B9F1-4B1D-BC06-1880785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C0C-EDA1-4B2C-A2E1-7D91AA8C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CBD08-8A6F-481F-8960-48F4C9CD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2EBC-1EEE-4693-A034-76A3FD8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C6680-D1DA-4B5B-B64C-4F87DD9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44DE-E877-4724-8A67-E778CD0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1680" y="3978720"/>
            <a:ext cx="854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AF731-D464-4273-B2A6-8D4AAFCC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82916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8200" y="3978720"/>
            <a:ext cx="4167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F6278-08EA-4E86-BA1D-A1F22C9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8924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76800" y="182916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168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8924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76800" y="3978720"/>
            <a:ext cx="274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B5738-B43B-4BEA-8798-7D3881BC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28F93-09CA-4410-8CFD-33A608F9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314F-57DB-4D6E-8714-A05BFE2D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198D5-9CEB-4C2D-AC19-6282E7A3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2FFE5EA3-1594-47C7-87DA-4BB99499C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C8836019-3899-4078-BB49-C3D07A27C9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8E1A9A24-CC18-413D-86CE-A287C8F9A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D1A3D7F-AB97-46B7-87BE-C13AB4624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396AFDB6-E54B-4E0E-959F-FBEB0AFC7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01D68665-AF6B-4B89-A20B-DE48E0949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A5EC8F4E-23F1-4632-BE81-A96C3C1B6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678751A2-A566-4B9B-B662-A569DB1B77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95C0DF1E-0F7A-4B02-A21B-A9863AD96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7FFB65E5-94ED-4B2B-BFF9-02E7C03E0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8"/>
          <p:cNvSpPr/>
          <p:nvPr/>
        </p:nvSpPr>
        <p:spPr>
          <a:xfrm>
            <a:off x="442800" y="6597720"/>
            <a:ext cx="4416480" cy="0"/>
          </a:xfrm>
          <a:prstGeom prst="line">
            <a:avLst/>
          </a:prstGeom>
          <a:ln w="28440">
            <a:solidFill>
              <a:srgbClr val="d7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4000" y="6524640"/>
            <a:ext cx="4417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0"/>
          <p:cNvSpPr/>
          <p:nvPr/>
        </p:nvSpPr>
        <p:spPr>
          <a:xfrm>
            <a:off x="179280" y="6453360"/>
            <a:ext cx="4416480" cy="0"/>
          </a:xfrm>
          <a:prstGeom prst="line">
            <a:avLst/>
          </a:prstGeom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932360" y="6308640"/>
            <a:ext cx="33242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GB" sz="1800" spc="-1" strike="noStrike">
                <a:solidFill>
                  <a:srgbClr val="dddddd"/>
                </a:solidFill>
                <a:latin typeface="Book Antiqua"/>
              </a:rPr>
              <a:t>Aeronautica Milit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3" descr="Immagine1"/>
          <p:cNvPicPr/>
          <p:nvPr/>
        </p:nvPicPr>
        <p:blipFill>
          <a:blip r:embed="rId2"/>
          <a:stretch/>
        </p:blipFill>
        <p:spPr>
          <a:xfrm>
            <a:off x="8101080" y="5734080"/>
            <a:ext cx="94140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01680" y="1829160"/>
            <a:ext cx="85406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336564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fld id="{78067682-EB74-476F-9DD2-E5EB872B2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sp>
        <p:nvSpPr>
          <p:cNvPr id="515" name="Rectangle 3"/>
          <p:cNvSpPr/>
          <p:nvPr/>
        </p:nvSpPr>
        <p:spPr>
          <a:xfrm>
            <a:off x="725400" y="4311720"/>
            <a:ext cx="7678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° Repar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54080" y="6427800"/>
            <a:ext cx="2473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5560" algn="ctr">
              <a:spcBef>
                <a:spcPts val="374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1500" spc="-1" strike="noStrike">
                <a:solidFill>
                  <a:srgbClr val="ffff00"/>
                </a:solidFill>
                <a:latin typeface="Arial"/>
              </a:rPr>
              <a:t>Roma, 30-31 ottobre 201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0"/>
          <p:cNvSpPr/>
          <p:nvPr/>
        </p:nvSpPr>
        <p:spPr>
          <a:xfrm>
            <a:off x="-14400" y="4871880"/>
            <a:ext cx="9172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rogetto di Riordino dello Strumento Militare Nazion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99"/>
                </a:solidFill>
                <a:latin typeface="Arial"/>
              </a:rPr>
              <a:t>INCONTRO CON I RAPPRESENTANTI NAZIONALI DELLE OO.S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GIÀ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826920" y="1446120"/>
          <a:ext cx="7643880" cy="3206880"/>
        </p:xfrm>
        <a:graphic>
          <a:graphicData uri="http://schemas.openxmlformats.org/drawingml/2006/table">
            <a:tbl>
              <a:tblPr/>
              <a:tblGrid>
                <a:gridCol w="1641600"/>
                <a:gridCol w="1859040"/>
                <a:gridCol w="1143000"/>
                <a:gridCol w="1428840"/>
                <a:gridCol w="1571400"/>
              </a:tblGrid>
              <a:tr h="7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° RMV SIGONEL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CONFIGURAZIONE MANUTENZIONE ALTRI SISTEMI D’AR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OSPE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IGENZA DI RICONVERSIONE PROFESSIONA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GM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LÌ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RIDIMENSIONAMENTO/RILOCAZIONE (2020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ATTIVAZIONE FASE  REIMPIEGO ALL’ATTO DELLA AUTORIZZAZIONE ALLA RILOC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666720" y="3710160"/>
            <a:ext cx="8001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marL="1619280" indent="-1619280">
              <a:spcBef>
                <a:spcPts val="1250"/>
              </a:spcBef>
              <a:tabLst>
                <a:tab algn="l" pos="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osto 2012 : trasmissione allo SMD dell’elenco aggiornato dei provvedimenti da attuars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3"/>
          <p:cNvSpPr/>
          <p:nvPr/>
        </p:nvSpPr>
        <p:spPr>
          <a:xfrm>
            <a:off x="1143000" y="1433520"/>
            <a:ext cx="7000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just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PROVVEDIMENTI  REVISIONE STRUMENTO MILIT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012/20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34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(ELEMENTI DI ORGANIZZAZIONE CON PP.OO. PERSONALE CIVIL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00040" y="771480"/>
          <a:ext cx="8072640" cy="330984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BARI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O SEDIM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O SEDIME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.P. MILAN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DI CORPO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. POL. POZZUOLI* (sedi di Pozzuoli, Caserta, Capodichin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MEDESIMI SEDIM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6-0-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ORD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MPIEGO SU NUOVI EDO  STESSI SEDIMI (Infermerie di corp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. SANITARIA D’APPELLO – ROMA*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00040" y="4362480"/>
          <a:ext cx="8072640" cy="135252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 STD VENEZ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IN FASE ELABO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 STD FINALE LIGU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ALBENGA DELLA DITTA PIAGGI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/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8" name="CasellaDiTesto 2"/>
          <p:cNvSpPr/>
          <p:nvPr/>
        </p:nvSpPr>
        <p:spPr>
          <a:xfrm>
            <a:off x="441360" y="407664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ATTUATIVI DAL 1° NOVEMBRE 20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00040" y="1004760"/>
          <a:ext cx="8072640" cy="32004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REZ. AMM.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ROMA PAL.A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FF.DISTACC COMM.TO BA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°UFF REP AMMINISTR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CIAMPIN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REPARTO GENIO MILA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00040" y="4330800"/>
          <a:ext cx="8072640" cy="11700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° GrRAM POGGIO BALL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4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D.C. MONTEROTOND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GUIDON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500040" y="907920"/>
          <a:ext cx="8072640" cy="399420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500120"/>
                <a:gridCol w="1714680"/>
              </a:tblGrid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 DC GALLAR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DELLE FUNZIONI AL 1° RMV 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°STORMO PIAC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°STORMO VILLAFRAN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EVIS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ITO SN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 (NEI SN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RUPPO RIFORNIMENTI TORRICOL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SU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41440" y="809640"/>
          <a:ext cx="8072280" cy="14637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280"/>
                <a:gridCol w="1500480"/>
                <a:gridCol w="171432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zio Amministrati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BIO DIPENDENZ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l Comando Aeroporto al COMA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TENIMENTO PRESSO ARTICOL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46120" y="2505240"/>
          <a:ext cx="8072280" cy="1098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321444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O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EPV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ITU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O SOVRAORDINATO AL COMANDO AEROPORTO CAMERI E AL 1° RM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49360" y="3762360"/>
          <a:ext cx="8072280" cy="1773360"/>
        </p:xfrm>
        <a:graphic>
          <a:graphicData uri="http://schemas.openxmlformats.org/drawingml/2006/table">
            <a:tbl>
              <a:tblPr/>
              <a:tblGrid>
                <a:gridCol w="1785960"/>
                <a:gridCol w="1857240"/>
                <a:gridCol w="1214640"/>
                <a:gridCol w="1608120"/>
                <a:gridCol w="1606320"/>
              </a:tblGrid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NSR MONTE CAVO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Q. TLC CIAMP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 BORGO PIA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AZIONE PREVENTIV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9"/>
          <p:cNvSpPr/>
          <p:nvPr/>
        </p:nvSpPr>
        <p:spPr>
          <a:xfrm>
            <a:off x="785880" y="127080"/>
            <a:ext cx="74293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PROVVEDIMENTI 2012-201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00040" y="1127160"/>
          <a:ext cx="8072640" cy="4487760"/>
        </p:xfrm>
        <a:graphic>
          <a:graphicData uri="http://schemas.openxmlformats.org/drawingml/2006/table">
            <a:tbl>
              <a:tblPr/>
              <a:tblGrid>
                <a:gridCol w="2328840"/>
                <a:gridCol w="1940040"/>
                <a:gridCol w="1241280"/>
                <a:gridCol w="1243080"/>
                <a:gridCol w="1319400"/>
              </a:tblGrid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. AEROP. VIGNA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Mostre - Roma Urb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LOCAZIONE SU VIGNA DI VA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7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PANTELLE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Z. SMISTAMENTO AREA NORD BAGGI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EROP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NI SARZA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SVZ TEC.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ZIONALIZZAZ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entro 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SVZ TEC. DIST. TORIN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CLEO DIST. CASEL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AL 1° NOVEMBRE 2012. FUNZIONI RILOCATE AL 1° RMV CAMER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/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4"/>
          <p:cNvSpPr/>
          <p:nvPr/>
        </p:nvSpPr>
        <p:spPr>
          <a:xfrm>
            <a:off x="1042920" y="5713560"/>
            <a:ext cx="1603440" cy="457200"/>
          </a:xfrm>
          <a:prstGeom prst="rightArrow">
            <a:avLst>
              <a:gd name="adj1" fmla="val 50000"/>
              <a:gd name="adj2" fmla="val 876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4"/>
          <p:cNvSpPr/>
          <p:nvPr/>
        </p:nvSpPr>
        <p:spPr>
          <a:xfrm rot="5400000">
            <a:off x="4697640" y="3373920"/>
            <a:ext cx="442800" cy="552600"/>
          </a:xfrm>
          <a:prstGeom prst="rightArrow">
            <a:avLst>
              <a:gd name="adj1" fmla="val 50000"/>
              <a:gd name="adj2" fmla="val 5929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632600" y="4221000"/>
            <a:ext cx="660600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IPOTESI NUOVA QUOTA AM = DA DEFIN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979640" y="1700280"/>
            <a:ext cx="5977080" cy="15109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a2dc"/>
                </a:solidFill>
                <a:latin typeface="Arial"/>
              </a:rPr>
              <a:t>Quota dotazioni organiche ipotizzata AM 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4.48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prima della norma “spending review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2676960" y="5734080"/>
            <a:ext cx="499032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F.E.O.  A.M. al 29 ott 2012 = 4.42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>
            <a:off x="642960" y="20131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2508480" y="1785960"/>
            <a:ext cx="56718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Avvio studi definizione/ottimizz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dei moduli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195640" y="2924280"/>
            <a:ext cx="480528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evisione TOO già avvia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Tenendo presen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4"/>
          <p:cNvSpPr/>
          <p:nvPr/>
        </p:nvSpPr>
        <p:spPr>
          <a:xfrm rot="5400000">
            <a:off x="2465640" y="4021560"/>
            <a:ext cx="442800" cy="55260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16000" y="4869000"/>
            <a:ext cx="260820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vaca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e non funzion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24"/>
          <p:cNvSpPr/>
          <p:nvPr/>
        </p:nvSpPr>
        <p:spPr>
          <a:xfrm rot="5400000">
            <a:off x="6571440" y="3950640"/>
            <a:ext cx="442800" cy="552240"/>
          </a:xfrm>
          <a:prstGeom prst="rightArrow">
            <a:avLst>
              <a:gd name="adj1" fmla="val 50000"/>
              <a:gd name="adj2" fmla="val 5912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 vert="eaVert" rot="10800000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5512680" y="4653000"/>
            <a:ext cx="2620800" cy="128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p.oo. non funz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nel disegn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ordinativo futu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24"/>
          <p:cNvSpPr/>
          <p:nvPr/>
        </p:nvSpPr>
        <p:spPr>
          <a:xfrm>
            <a:off x="642960" y="30700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865600" y="2637000"/>
            <a:ext cx="4227480" cy="12888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Circolare ordinativ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ggiornamento TOO 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al 30 giugno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</a:rPr>
              <a:t>SCOPO DELLA RIUN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tangolo 3"/>
          <p:cNvSpPr/>
          <p:nvPr/>
        </p:nvSpPr>
        <p:spPr>
          <a:xfrm>
            <a:off x="826920" y="1628640"/>
            <a:ext cx="7705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formare le OO.SS. circa il progetto di riordino dell’AM, in senso riduttivo, indicando i possibili provvedimenti da adottare nel periodo 2012-201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650"/>
              </a:spcBef>
              <a:spcAft>
                <a:spcPts val="150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llustrare e aggiornare sulle linee di indirizzo per l’impiego del personale civile anche alla luce delle nuove dotazioni organiche in via di defini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9"/>
          <p:cNvSpPr/>
          <p:nvPr/>
        </p:nvSpPr>
        <p:spPr>
          <a:xfrm>
            <a:off x="785880" y="127080"/>
            <a:ext cx="74293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LINEE DI INDIRIZZO PER L’ORGANICO E L’IMPIEG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4"/>
          <p:cNvSpPr/>
          <p:nvPr/>
        </p:nvSpPr>
        <p:spPr>
          <a:xfrm>
            <a:off x="571680" y="2644920"/>
            <a:ext cx="1123920" cy="417240"/>
          </a:xfrm>
          <a:prstGeom prst="rightArrow">
            <a:avLst>
              <a:gd name="adj1" fmla="val 50000"/>
              <a:gd name="adj2" fmla="val 673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425320" y="2631960"/>
            <a:ext cx="572364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Mantenimento/riduzione attuale F.E.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4"/>
          <p:cNvSpPr/>
          <p:nvPr/>
        </p:nvSpPr>
        <p:spPr>
          <a:xfrm>
            <a:off x="571680" y="3701880"/>
            <a:ext cx="1123920" cy="417600"/>
          </a:xfrm>
          <a:prstGeom prst="rightArrow">
            <a:avLst>
              <a:gd name="adj1" fmla="val 50000"/>
              <a:gd name="adj2" fmla="val 672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2453040" y="3703680"/>
            <a:ext cx="5452200" cy="8650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ivilegiare professionalità pregi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(area tec.-manutentiva,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Immagine 9" descr="Foto di Apertura"/>
          <p:cNvPicPr/>
          <p:nvPr/>
        </p:nvPicPr>
        <p:blipFill>
          <a:blip r:embed="rId1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3216240" y="771480"/>
            <a:ext cx="2652840" cy="346572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66">
                <a:alpha val="75000"/>
              </a:srgbClr>
            </a:outerShdw>
          </a:effectLst>
        </p:spPr>
      </p:pic>
      <p:pic>
        <p:nvPicPr>
          <p:cNvPr id="585" name="Rettangolo 6" descr=""/>
          <p:cNvPicPr/>
          <p:nvPr/>
        </p:nvPicPr>
        <p:blipFill>
          <a:blip r:embed="rId3"/>
          <a:stretch/>
        </p:blipFill>
        <p:spPr>
          <a:xfrm>
            <a:off x="743040" y="4376880"/>
            <a:ext cx="7657920" cy="1596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ttangolo 3"/>
          <p:cNvSpPr/>
          <p:nvPr/>
        </p:nvSpPr>
        <p:spPr>
          <a:xfrm>
            <a:off x="611280" y="1285920"/>
            <a:ext cx="816444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Introdu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Status Riord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vvedimenti da attu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Linee di indirizzo sull’ordinamento e impiego del personale civi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35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clus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82760" y="239760"/>
            <a:ext cx="829296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3700" spc="-1" strike="noStrike">
                <a:solidFill>
                  <a:srgbClr val="ffff00"/>
                </a:solidFill>
                <a:latin typeface="Arial"/>
              </a:rPr>
              <a:t>INTRODUZION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000160" y="1643040"/>
            <a:ext cx="5214960" cy="4413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RIORGANIZZAZIONE DIFE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 rot="17529600">
            <a:off x="2819160" y="2487240"/>
            <a:ext cx="627120" cy="550800"/>
          </a:xfrm>
          <a:prstGeom prst="rightArrow">
            <a:avLst>
              <a:gd name="adj1" fmla="val 50000"/>
              <a:gd name="adj2" fmla="val 6731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642960" y="3514680"/>
            <a:ext cx="2608200" cy="113616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Provvedimenti già inseriti nel  D.Lgs. 253/’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 rot="14589000">
            <a:off x="5387760" y="2406240"/>
            <a:ext cx="627120" cy="551160"/>
          </a:xfrm>
          <a:prstGeom prst="rightArrow">
            <a:avLst>
              <a:gd name="adj1" fmla="val 50000"/>
              <a:gd name="adj2" fmla="val 6726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5286240" y="3300480"/>
            <a:ext cx="3286440" cy="20570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.D.L. reca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Delega al Governo per la revisione de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a2dc"/>
                </a:solidFill>
                <a:latin typeface="Arial"/>
              </a:rPr>
              <a:t>strumento militare nazional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ttangolo 6"/>
          <p:cNvSpPr/>
          <p:nvPr/>
        </p:nvSpPr>
        <p:spPr>
          <a:xfrm>
            <a:off x="357120" y="142884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601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AGGIORNAMENTO PROVVEDIMENTI  AVVIATI DAL D.LGS 253/05  e </a:t>
            </a:r>
            <a:r>
              <a:rPr b="1" i="1" lang="it-IT" sz="2400" spc="-1" strike="noStrike">
                <a:solidFill>
                  <a:srgbClr val="00cc00"/>
                </a:solidFill>
                <a:latin typeface="Arial"/>
              </a:rPr>
              <a:t>ATTU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ttangolo 7"/>
          <p:cNvSpPr/>
          <p:nvPr/>
        </p:nvSpPr>
        <p:spPr>
          <a:xfrm>
            <a:off x="1214280" y="252720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2° GrRAM Otra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34° GrRAM Siracu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28760" y="214200"/>
            <a:ext cx="8291520" cy="7588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700" spc="-1" strike="noStrike">
                <a:solidFill>
                  <a:srgbClr val="ffff00"/>
                </a:solidFill>
                <a:latin typeface="Arial"/>
              </a:rPr>
              <a:t>STATUS RIORDINO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ttangolo 6"/>
          <p:cNvSpPr/>
          <p:nvPr/>
        </p:nvSpPr>
        <p:spPr>
          <a:xfrm>
            <a:off x="357120" y="1428840"/>
            <a:ext cx="8501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AGGIORNAMENTO PROVVEDIMENTI  AVVIATI DAL D.LGS.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(già partecipati alle OO.S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ttangolo 7"/>
          <p:cNvSpPr/>
          <p:nvPr/>
        </p:nvSpPr>
        <p:spPr>
          <a:xfrm>
            <a:off x="1214280" y="2786040"/>
            <a:ext cx="68580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Elma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Distaccamento Aeroportuale Brindis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1° RMV Sigonell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2° GMA Forlì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° Deposito Centrale Mod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DAL DLGS 253/05  E ATTUA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714240" y="2381400"/>
          <a:ext cx="7858440" cy="1984320"/>
        </p:xfrm>
        <a:graphic>
          <a:graphicData uri="http://schemas.openxmlformats.org/drawingml/2006/table">
            <a:tbl>
              <a:tblPr/>
              <a:tblGrid>
                <a:gridCol w="1627200"/>
                <a:gridCol w="1841760"/>
                <a:gridCol w="1274760"/>
                <a:gridCol w="1608120"/>
                <a:gridCol w="150660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 EFFETTU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° GrRAM Otra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ORGANIZZAZIONE IN DISTACCAMENTO AM E IN Sq.R.R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SEMPLIFICATA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ià attuat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DI REIMPIEGO OPERATIVO DAL 01/07/2012 nei nuovi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° GrRAM Siracus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55640" y="1714680"/>
          <a:ext cx="7858080" cy="2579400"/>
        </p:xfrm>
        <a:graphic>
          <a:graphicData uri="http://schemas.openxmlformats.org/drawingml/2006/table">
            <a:tbl>
              <a:tblPr/>
              <a:tblGrid>
                <a:gridCol w="1671480"/>
                <a:gridCol w="1785960"/>
                <a:gridCol w="1285920"/>
                <a:gridCol w="1571760"/>
                <a:gridCol w="154296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 DA EFFETTUA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° GRUPPO RIFORN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EL D’ANNONE (AT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 (in aspettativa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TAZIONE EFFETTUATA NEL  2008.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LPERSONALE VIENE TRASFERITO ALL’ATTO DELLA CHIUSURA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°GRUPPO  RIFORNIMENTI VIZZINI (S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0000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9"/>
          <p:cNvSpPr/>
          <p:nvPr/>
        </p:nvSpPr>
        <p:spPr>
          <a:xfrm>
            <a:off x="1285920" y="127080"/>
            <a:ext cx="6357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5960" indent="-345960" algn="ctr">
              <a:spcBef>
                <a:spcPts val="499"/>
              </a:spcBef>
              <a:tabLst>
                <a:tab algn="l" pos="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GGIORNAMENTO PROVVEDIMENTI  AVVIATI PREVISTI  DAL DLGS 253/05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84360" y="981000"/>
          <a:ext cx="8137440" cy="4253040"/>
        </p:xfrm>
        <a:graphic>
          <a:graphicData uri="http://schemas.openxmlformats.org/drawingml/2006/table">
            <a:tbl>
              <a:tblPr/>
              <a:tblGrid>
                <a:gridCol w="1714320"/>
                <a:gridCol w="1943280"/>
                <a:gridCol w="1344600"/>
                <a:gridCol w="1622160"/>
                <a:gridCol w="1513080"/>
              </a:tblGrid>
              <a:tr h="76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PAR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OVVEDIMEN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E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EIMPIEGO PERSONALE CIVI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ZION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° D.C. MODEN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2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DURA ORDINARI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ANO REIMPIEGO APPROVAZIONE POLITIC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ELMA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PPRESSIONE GRADUALE CON RILASCIO DEL SEDIM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2013/201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CERTAZIONE PREVISTA NOVEMBRE 20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STACCAMENTO AEROPORTUALE BRINDISI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DIMENSIONAMENTO DELL’ATTUALE Ed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E IMPIEGO NELL’EDO RIDIMENSIONAT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POSTA PROCEDURA SEMPLIFICA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9:13:27Z</dcterms:created>
  <dc:creator>smelzoe</dc:creator>
  <dc:description/>
  <dc:language>en-US</dc:language>
  <cp:lastModifiedBy>genovesea</cp:lastModifiedBy>
  <dcterms:modified xsi:type="dcterms:W3CDTF">2012-11-22T11:55:42Z</dcterms:modified>
  <cp:revision>796</cp:revision>
  <dc:subject/>
  <dc:title>Diapositiva 1</dc:title>
</cp:coreProperties>
</file>